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ЕГРИСАНЕ АКАДЕМСК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ВОД У ФАРМАЦЕУТСКУ ТЕХНОЛИГИЈ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авање 1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брада рецепата из области супозиториј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мулзија, кремо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ini phosphatis       0,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epsol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.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suppositorium D.t.d. N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упозиторију дне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deini phosphas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 системско-потребна провера доз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d: 0,03 &lt; 0,08                                               2 : 100 = X : 5     X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d: 0,1 &gt; 0,08                                        0,1g &gt; 0,08g  не треба фактор истискив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d: 0,3 &gt; 0,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: 2 * 12 =24 – 0,08*12 = 24 -0,96 =23,04 + 20% = 27,65г подл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ini phosphas  0,08*12 = 0,96г +20% = 1,15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muti subgallat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i oxydi                 aa    0,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epsoli                            q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supp. D.t.d.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свако вече 1 супозитор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smuti subgalat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деловање локално-треба провера средње концентр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IV s.conc. = 10%   Провера:0,15 : 2 = X :100   X = 7,5 &lt; 10%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тискивања: 2 : 100 = X : 5 X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 &gt; 0,1 треба фактор истискивања     ФИ = 2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inci oxy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   s. conc. = 40%    0,15 : 2 = X : 100     X = 7,5 &lt; 4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 &gt; 0,1 треба ФИ    ФИ = 4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7г : 1г подлоге = 1,05г : X   X = 0,3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7g : 1г подлоге = 1,05г : X     X = 0,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oga: 7*2=14 – 0,39 – 0,22 = 13,39 +20% = 16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: 0,15*7=1,05 + 20% = 1,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: 1,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360" y="11426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mulsio</a:t>
            </a:r>
            <a:r>
              <a:rPr b="1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is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oleosae</a:t>
            </a:r>
            <a:r>
              <a:rPr b="1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100,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препарат је официналан по 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 II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опис такође наводе и </a:t>
            </a:r>
            <a:r>
              <a:rPr b="1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агистралне формуле 2008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опис за препарат суспензије у чији састав улази уљана емулзија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m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mmi arabicum (I)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urificat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  100,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ана емулзија се свежа припрема у апотеци, пошто улази у састав других рецеп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360" y="1214280"/>
            <a:ext cx="8929800" cy="559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: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грама уља се у сувом порцеланском тарионику помеша са прахом арапске гум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им се брзо измеша са 7,5 грама воде (половина од укупног збира емулгатора и уља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 се не чује пуцкетање и добије хомогена глатка млечно бела примарна емулз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у додајемо преосталу количину вод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потребно у тако припремљену емулзију додаје се лековита супстан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ипа у медицинску боц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2920" y="1143000"/>
            <a:ext cx="8858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и сигнатура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здаје се у бочици са белом сигнатуром и обавезном напоменом „Пре употребе промућкати“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 за лековите сусптанце тј.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ни део других препа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1285560"/>
            <a:ext cx="91440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idi stearic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                                           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4,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opilenglycoli </a:t>
            </a:r>
            <a:r>
              <a:rPr b="0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3,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iethanolamini</a:t>
            </a:r>
            <a:r>
              <a:rPr b="0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1,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ethyli parahydroxi benzoati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0,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opyli parahydroxi benzoati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0,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quae purificatae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ad  100,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. fiat unguent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. </a:t>
            </a:r>
            <a:r>
              <a:rPr b="0" i="1" lang="sr-C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пољ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је магистрална подлога типа емулзије тј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инског кре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инска кис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а је једним делом слободна и представља масну фаз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другим делом служи за сапонификацију са триетаноламином, при чему се гради сапун емулгатор триетаноламинстеарат, који диктира настајање У/В емулзиј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-360" y="1143000"/>
            <a:ext cx="89298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дена и масна фаза се свака посебно загреју на 80-85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дену фазу чине: вода, пропиленгликол и триетанол амин. Конзарванси метил и пропил хидроксибензоати су официнални по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V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ису растворни у води већ у пропиленгликол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у фазе постигле темепратуру додаје се масна у водену фазу. Меша се у патени ручно, снажно да б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постигла хомогено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уклопљеног ваздуха. Након иницијалног емулговања дода се пропиленгликол са конзервансима. Крем се мора мешати све док се не охлади потпу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и сигнатура: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дицинској пластичној кутији. Црвена сигнатура, на којој пише „Споља“, датум и потпи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: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 за хидрофилне лековите супстанце које нису инкопатибилне са алкалијама или се користи као дневни крем за негу кож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rijana</cp:lastModifiedBy>
  <dcterms:modified xsi:type="dcterms:W3CDTF">2019-01-13T21:57:22Z</dcterms:modified>
  <cp:revision>66</cp:revision>
  <dc:subject/>
  <dc:title>Slide 1</dc:title>
</cp:coreProperties>
</file>